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28.jpeg" ContentType="image/jpeg"/>
  <Override PartName="/ppt/media/image6.png" ContentType="image/png"/>
  <Override PartName="/ppt/media/image26.gif" ContentType="image/gif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0.gif" ContentType="image/gif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gif" ContentType="image/gif"/>
  <Override PartName="/ppt/media/image19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2.jpeg" ContentType="image/jpeg"/>
  <Override PartName="/ppt/media/image27.gif" ContentType="image/gif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7624-17E0-4841-8B66-FB93C902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F45F-6C5D-4B65-92F5-17CCB7DC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2E87C5-5D5F-4517-AE36-7BE78CF6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8BDE8-71DF-482E-A7FA-495DEABA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EC7920-D0CF-475D-A65F-7F79A16E9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12D04-DF55-458B-A8A6-CEE92B9B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70D5E-26F9-4010-8F6D-1D088AC4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4BCB6-684D-46E7-91EE-3246A1F3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69DDB-263D-4303-B3F7-819ACA01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25204-68AB-4749-BCAD-63F68C166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49612-609A-4955-8448-B3CEAFC24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B64DB-3331-4546-8EDE-7D5C54287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8C23-06BA-4583-9E5B-748DA64B3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F74ADB-6875-4FB5-9ED9-8CCDA490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B18529-B311-4CD1-877B-F042CD41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9BDD1E-D397-4582-AA84-9F86050C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9C2147-2A02-417A-9948-7F944FD11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E7D735-D4BA-4A75-8303-7FA349EC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3555C-DE5D-457A-87EB-3B8E3E54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A6475-6ADA-4D79-8939-4B8C92A8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D3153-3638-400E-80B3-F36DDBE8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9EED28-F0DE-4FC5-AD0A-85A8EED43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2A05A-1F69-4360-BEF3-1E433184F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2FCF-F451-47F6-B46E-C25C2C1F2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7BBA6-EC4D-4CE3-9778-A89BE0718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4F879-0F9E-4E10-83E1-26925EC24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863C9-BF12-4F49-AE1F-2FE9E0E0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73823-8816-4380-A4F7-C6A4EA58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7438C-4063-4D83-9090-6B64AAA1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1968E-1F74-4B9B-828D-6D1702C3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B139A0-E28B-493E-AEEE-CDB1A935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A3037-E27C-4728-B9C2-FA8E9AC18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D4269-FBEC-4CD9-A222-4425444B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9833D-D2C2-48EF-805A-9763A4CE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FE8A-1BCE-495C-BFBA-AFBEA8E86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6F4CC-9ECC-4B7E-9369-879DC059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4C456-1920-4BE9-840B-8A7166D35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67B32-DF1C-4CBF-85A7-DA626E00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78455-5585-4FF4-8063-D726B7FE6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AE56D-41F0-4C7B-B585-45CF033E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E18640-1A42-48CD-883B-BEA81FD4F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13945-0270-430C-8D94-EFE4070B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D86FD-851C-44F2-880A-FC2EFE00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3BBEA1-1BEB-4462-8106-90C3297B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B762C0-5F23-4976-A1B8-6A286C88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43EE7-EEC6-48BC-B243-6CCF5B25B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0F109-8895-46AA-8A6F-583E3183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3D80B5-8B22-4EFE-A5E3-F8E3E4C3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19D1CB-520A-4D3F-B1A3-8438BB7B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5A5B1-0AC9-4D36-84E8-62D4E1121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6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7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ACC3BE-0CFF-480F-A758-936EA4C1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DBFA4B-28DC-4012-8A0E-444F456F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4786FB-1540-4457-924E-F27CFB93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A8FA73-8AF4-4DEA-9719-808ADC77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60C04A-3874-4D8A-BEA9-D4EB8C4A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A371AE-B1BF-4990-9116-341FE2A6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45E7-4111-421E-AD8E-A5201082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7C04B6-8200-4B3A-8900-5F075E39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B0E02E-1F4B-462F-9EB5-4106389B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1F8E6A-686E-41A9-B12C-671FA973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DBC855-66ED-4489-8B2A-1740C76C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2F6F47-15FF-47B5-8473-F5C24543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3E1A75-C234-45EB-9717-F7910A0B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AB62EA-48B5-48CE-AD54-F1BE11B1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8FB159-6EE5-4AAA-B80B-0764FD66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3F4B39-2D32-4658-9B50-1F9AFB4A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88F2E6-91DA-4665-84FA-6C27658C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30F79-C214-4FC4-BB9B-8879C99C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F9211C-B08A-4CED-ADCC-8D02EDAF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540BAE-15F8-4F23-9540-4B33E906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59102F-0114-4737-8B69-7BD7D32E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B644E6-29E6-4F41-9BD6-EB139AB8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C3840E-BE3D-4E6B-8B13-0B4169B9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689F88-75CA-4B8B-A49C-CD5726B2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E8E880-724A-4056-BF09-2C281FB8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F59CC8-6B85-4F63-B56C-D86459870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7AB00A-816D-498B-B8FB-41A7876D9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BECE50-2CE3-433D-A414-712FE7032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AE87-421B-4D4C-A861-7999AAEA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D223E6-8AE4-4745-9399-775F67F7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62EF13-DF9D-4F49-B6FF-8B01E270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02265F-C7A0-414D-B7EA-1B11A02C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A7B015-112D-4786-B506-0285A27B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02EE45-2BFC-43C3-A2B3-FE697045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51E90F-B3A4-4660-99B6-BE14D6E4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BB2A70-F1D1-4923-AC71-FF989A2E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1DB52D-3BAE-42CE-8C68-6E21973F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015FB3-E6DA-4E9A-B67C-DC1DD4F5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C71D81-26C3-4302-8A27-C746716B4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32DC-C5FF-4B73-B07C-A5D566EF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3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4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78766A-D93A-4083-84BD-C8767B0A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2FD268-4F66-4259-96F5-5F58B426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0ABEDB-8540-47F9-AD3A-93CB88F1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CEDEEF-1814-44FF-88B8-1AA49DF3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2EB90F-79B1-4094-8017-217786C7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74E7AA-153E-4BF6-B6CB-D09DC985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145CC7-CAC6-4E22-A138-186A86EC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DD1D2F-F557-4B35-9FCC-82BE8701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43ED00-75BF-4575-A0C3-B21A1924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725A93-7AC2-4255-A1D0-FC815A47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4264-A223-45B0-8C65-0EC84A82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7BEB88-9E82-4703-B64F-06EB5444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06BF60-477B-4A39-895A-548C95C5D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F27C7C-353F-4940-A887-9CCEF22C6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DDC8-7845-4C2C-A68F-DD992E05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4A22-7738-4B1E-9B83-BF482198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C0CA-D5EE-4FA9-9FEF-D19C4CC4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9605-DCAF-470C-9BB9-A99ECB16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6231-158C-49EA-8EB7-EFE6C78D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506C-5F57-4BC4-85CF-1A34E0AE3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F7432-AD41-4A17-BBCE-921AE55D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D503E-3642-4197-A145-2217E033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F4F03-5188-43BD-99F2-EE0B2F4E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02106-9978-4534-A79D-50FB8BDAD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17A2D-DC70-4BDC-A04B-E386606F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8CF4-3F1B-4C56-8E60-F4DDE8BF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091B6-DDFC-44FD-B662-C19150C4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36596-3016-480A-AC36-25838BA9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CAB21-D14B-4B87-849F-A03F7E3D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C3D9E-E80E-4380-AA94-57CC4C3A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37393-B187-4459-8789-64EFE27F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894A8-0295-413C-A37B-F75EA41E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7D455-2764-4711-9B08-01F76564D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5A606-844C-47A5-A3A3-16C35F47A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4CC34-4ECA-421C-8759-CF2043C4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6CFF1-9556-4750-A952-69234CBD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5E2B-9D9A-465C-B29C-F0A4EE89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BB0B5-9B9E-4925-ABB4-DE7C100B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19BB6-7708-451D-9BA9-5956EBA9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74764-F01E-48C0-9D65-02943DF8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4A206-61E2-4C2C-9AEB-AA4C8138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6D101-4DB7-4F6F-AC3B-C603EC0C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59FC2-E5BD-4142-9ADF-6AB1B85F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A3AC4-D987-4C8F-859A-9CD1381BB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6DA9C-55F4-4A30-981A-5B381E51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ADD7C-8082-4E5C-B9F7-617A9ED46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A0408-6AE5-4899-BBD8-9BC8E162B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87A5-7A8B-44FC-A5BB-77CD640C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A9C6D-0916-43D5-BBC8-80E96BB87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DFCD5-6896-4408-8DBC-D9388683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BCB5C-8C77-47CC-8A1D-7385C1D3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BBB8B-1414-4428-89C1-930E8C9C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4B0B4-19ED-416B-BD29-D2AE712F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BEF0B-E7BC-42A8-B71D-171D523A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FB6CD-53CE-4BB4-9729-AA3C78E6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D646C-2AF7-4791-ACFD-813E156E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02544-7CE9-4F2A-A5AC-EE1F80C2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E0830-25D0-4E89-949A-DFC62F72D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4008-9C61-4CF3-9CD8-F009B267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7FDE4-8024-4254-AFD3-D4A30AE4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8EC47-DF1A-4877-B134-8F282B88A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6F516-9199-45E0-A766-66BEA41D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B21C5-2953-455B-ADD9-4C625907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98D76-C438-417F-9B12-3A79A13E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E92FD-F102-4622-8514-1BF899EC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25715-A8D1-4214-ACA0-7DB9F758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86A27-6794-4C6F-97E1-A0D1BF9C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514A7-544A-4613-8BD2-979FC837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B51FF-B258-4E38-AFAE-7157F2C4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534C-5AA9-4F4A-91F0-5F1B8116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0CE04-C5F5-4F53-9277-95201597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BB48B-A5CE-4710-B85E-106107E10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4B90A-6FB5-4CA4-B55B-4CE6DA6A4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53D8B-B7C9-49A9-B5CD-73BA53E11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65EE0-E995-47B1-BBF5-67379A00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547B6-2F04-42B1-9DFD-004CA427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574DA-E685-4801-8D9F-43C7E3D2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E4B48-3971-42FC-92BD-2706FEAD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60CE1-D065-4C36-8015-A8428120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859A6-55F7-406A-9A44-F4F37BB9C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29AE-87EA-4A04-BBFC-8B07FCE42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82E1F-EFE0-41C9-B405-5E382887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35B9A-E878-4CBE-A5AD-EE7281CD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E4F29-252B-49F7-8966-B59E3E50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11633-0B3C-4046-8E5A-DF6745BB1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23166-0997-48BE-89AF-E33BCB6D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C772B-2571-4AA5-BDF0-9F9307D87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51B2C-916F-4D21-B85A-F45FDBC7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D8F5C-D9ED-4158-B4F8-A46522C2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EDFA4-8044-40D5-A6AB-0A20923B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71A00-E4A1-4B6A-BB56-AEF63153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D170-364F-4C63-A0AA-0179F3E4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18B92-5B3E-4503-ADAD-E87488BD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325D2-EBD5-4447-ACAF-368A23CD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7DE92-5EDF-4B11-828D-A8C8F842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5D3D3-46A9-4A4A-876C-C157FF2F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B6C5B-E8C1-4FEE-A3A2-280F0E3D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D38D7-D035-4C95-A7B6-237036E8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B0C08-47BB-45BF-8E01-CAB5E059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51584-8891-4FBE-9ECA-A8EA774FF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7327D-216C-4D6B-A83F-5A957A4E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B1DD9-4F9A-4573-91FE-03257888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6BE0FE-BC7A-4007-A715-1346BA26953B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58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71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30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CF2D37-7F6F-4006-995C-4D2FDF529007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29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42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 type="sldNum" idx="33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93FE2B-7A4F-4A0A-B904-24356DA88A88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98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11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 type="sldNum" idx="36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E0BE79-8D51-41D6-82F2-2FC700FC3F7F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69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82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D70CE3-0B7C-4CFF-9EE2-E85154226F67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38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51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 type="sldNum" idx="42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02DD03-6342-4EE8-B608-AF2A16B91997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07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20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 type="sldNum" idx="4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22624E-EDE2-4EFA-9B1E-BC92EC1663F9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5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6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7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78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3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104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120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123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2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 type="dt" idx="4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eaeaea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 type="ftr" idx="4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eaeaea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BE0F88-B840-4C6F-BBDB-0D8879130E43}" type="slidenum">
              <a:rPr b="0" lang="ru-RU" sz="1000" spc="-1" strike="noStrike">
                <a:solidFill>
                  <a:srgbClr val="eaeaea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69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71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97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13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16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E5ECD0-2B2D-4C6B-BE6A-411E8F56DFBB}" type="slidenum"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75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88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425B48-34CB-42E2-9277-B5E93EE9DFCC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44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57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2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D70159-EA2B-4E79-84F3-89D260E52D7E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13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26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C5B8BC-9DD1-4B22-B1AE-34F4C22142AB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82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95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1D92C5-EE24-4F3B-AB2D-5321A38941EA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51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64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6D500A-2709-47BC-9593-F647B8766AB7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20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33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24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ADBF44-E85D-4A53-8BC9-1A7DEE03F380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89" name="Freeform 11"/>
            <p:cNvSpPr/>
            <p:nvPr/>
          </p:nvSpPr>
          <p:spPr>
            <a:xfrm>
              <a:off x="0" y="2574720"/>
              <a:ext cx="69840" cy="62676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Freeform 12"/>
            <p:cNvSpPr/>
            <p:nvPr/>
          </p:nvSpPr>
          <p:spPr>
            <a:xfrm>
              <a:off x="88560" y="315576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Freeform 13"/>
            <p:cNvSpPr/>
            <p:nvPr/>
          </p:nvSpPr>
          <p:spPr>
            <a:xfrm>
              <a:off x="560160" y="5446800"/>
              <a:ext cx="423720" cy="142056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Freeform 15"/>
            <p:cNvSpPr/>
            <p:nvPr/>
          </p:nvSpPr>
          <p:spPr>
            <a:xfrm>
              <a:off x="69840" y="3201840"/>
              <a:ext cx="571320" cy="332748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Freeform 16"/>
            <p:cNvSpPr/>
            <p:nvPr/>
          </p:nvSpPr>
          <p:spPr>
            <a:xfrm>
              <a:off x="15840" y="228600"/>
              <a:ext cx="72720" cy="292716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Freeform 17"/>
            <p:cNvSpPr/>
            <p:nvPr/>
          </p:nvSpPr>
          <p:spPr>
            <a:xfrm>
              <a:off x="53640" y="2944800"/>
              <a:ext cx="55440" cy="493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Freeform 18"/>
            <p:cNvSpPr/>
            <p:nvPr/>
          </p:nvSpPr>
          <p:spPr>
            <a:xfrm>
              <a:off x="534960" y="5478480"/>
              <a:ext cx="131760" cy="102528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Freeform 19"/>
            <p:cNvSpPr/>
            <p:nvPr/>
          </p:nvSpPr>
          <p:spPr>
            <a:xfrm>
              <a:off x="538200" y="1398600"/>
              <a:ext cx="144288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Freeform 20"/>
            <p:cNvSpPr/>
            <p:nvPr/>
          </p:nvSpPr>
          <p:spPr>
            <a:xfrm>
              <a:off x="641160" y="6529320"/>
              <a:ext cx="112680" cy="33804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Freeform 21"/>
            <p:cNvSpPr/>
            <p:nvPr/>
          </p:nvSpPr>
          <p:spPr>
            <a:xfrm>
              <a:off x="534960" y="5359320"/>
              <a:ext cx="25200" cy="22212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Freeform 22"/>
            <p:cNvSpPr/>
            <p:nvPr/>
          </p:nvSpPr>
          <p:spPr>
            <a:xfrm>
              <a:off x="590400" y="6245280"/>
              <a:ext cx="164880" cy="62208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02" name="Freeform 27"/>
            <p:cNvSpPr/>
            <p:nvPr/>
          </p:nvSpPr>
          <p:spPr>
            <a:xfrm>
              <a:off x="20520" y="0"/>
              <a:ext cx="409320" cy="440064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Freeform 28"/>
            <p:cNvSpPr/>
            <p:nvPr/>
          </p:nvSpPr>
          <p:spPr>
            <a:xfrm>
              <a:off x="453960" y="4316400"/>
              <a:ext cx="350640" cy="158112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Freeform 30"/>
            <p:cNvSpPr/>
            <p:nvPr/>
          </p:nvSpPr>
          <p:spPr>
            <a:xfrm>
              <a:off x="429840" y="4364280"/>
              <a:ext cx="457200" cy="223668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Freeform 32"/>
            <p:cNvSpPr/>
            <p:nvPr/>
          </p:nvSpPr>
          <p:spPr>
            <a:xfrm>
              <a:off x="919080" y="6572520"/>
              <a:ext cx="110880" cy="28080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Freeform 33"/>
            <p:cNvSpPr/>
            <p:nvPr/>
          </p:nvSpPr>
          <p:spPr>
            <a:xfrm>
              <a:off x="414000" y="4106880"/>
              <a:ext cx="68040" cy="51264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34"/>
            <p:cNvSpPr/>
            <p:nvPr/>
          </p:nvSpPr>
          <p:spPr>
            <a:xfrm>
              <a:off x="804600" y="3146400"/>
              <a:ext cx="1168560" cy="271620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Freeform 35"/>
            <p:cNvSpPr/>
            <p:nvPr/>
          </p:nvSpPr>
          <p:spPr>
            <a:xfrm>
              <a:off x="887400" y="6600960"/>
              <a:ext cx="99720" cy="25236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Freeform 36"/>
            <p:cNvSpPr/>
            <p:nvPr/>
          </p:nvSpPr>
          <p:spPr>
            <a:xfrm>
              <a:off x="804600" y="5897880"/>
              <a:ext cx="114120" cy="67464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Freeform 37"/>
            <p:cNvSpPr/>
            <p:nvPr/>
          </p:nvSpPr>
          <p:spPr>
            <a:xfrm>
              <a:off x="804600" y="5772240"/>
              <a:ext cx="31680" cy="22860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Freeform 38"/>
            <p:cNvSpPr/>
            <p:nvPr/>
          </p:nvSpPr>
          <p:spPr>
            <a:xfrm>
              <a:off x="831600" y="6323400"/>
              <a:ext cx="174600" cy="52992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27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B03B48-73AD-4609-935E-2FB8F6CC83F5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"/>
          <p:cNvSpPr/>
          <p:nvPr/>
        </p:nvSpPr>
        <p:spPr>
          <a:xfrm>
            <a:off x="236520" y="1484280"/>
            <a:ext cx="859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рок – детектив в 5 классе по тем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Буквы –а- и –о- в корнях –раст-, -ращ-, -рос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573800" y="3933720"/>
            <a:ext cx="422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БОУ Школа №22 городского округ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ород Уфа Республики Башкортоста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анышева Гюзель Флюро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455400" y="1598760"/>
            <a:ext cx="822636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07" name="Picture 2" descr="https://encrypted-tbn3.gstatic.com/images?q=tbn:ANd9GcRnenjZGK8HwP8_367b4e4NJznv8eNEnT98k8Aow5jrJP4vKokgHA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048360"/>
          </a:xfrm>
          <a:prstGeom prst="rect">
            <a:avLst/>
          </a:prstGeom>
          <a:ln w="0">
            <a:noFill/>
          </a:ln>
        </p:spPr>
      </p:pic>
      <p:sp>
        <p:nvSpPr>
          <p:cNvPr id="1208" name="Прямоугольник 3"/>
          <p:cNvSpPr/>
          <p:nvPr/>
        </p:nvSpPr>
        <p:spPr>
          <a:xfrm>
            <a:off x="971640" y="3429000"/>
            <a:ext cx="7272360" cy="2562840"/>
          </a:xfrm>
          <a:prstGeom prst="rect">
            <a:avLst/>
          </a:prstGeom>
          <a:gradFill rotWithShape="0">
            <a:gsLst>
              <a:gs pos="0">
                <a:srgbClr val="c3ffd3"/>
              </a:gs>
              <a:gs pos="100000">
                <a:srgbClr val="edfff2"/>
              </a:gs>
            </a:gsLst>
            <a:lin ang="16200000"/>
          </a:gradFill>
          <a:ln w="9360">
            <a:solidFill>
              <a:srgbClr val="a5deb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Буквы –а- и –о-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  <a:ea typeface="Arial"/>
              </a:rPr>
              <a:t>в корнях –раст-, -ращ-, -рос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9" name=""/>
          <p:cNvGraphicFramePr/>
          <p:nvPr/>
        </p:nvGraphicFramePr>
        <p:xfrm>
          <a:off x="34920" y="404640"/>
          <a:ext cx="9109080" cy="6048720"/>
        </p:xfrm>
        <a:graphic>
          <a:graphicData uri="http://schemas.openxmlformats.org/drawingml/2006/table">
            <a:tbl>
              <a:tblPr/>
              <a:tblGrid>
                <a:gridCol w="3013200"/>
                <a:gridCol w="3047760"/>
                <a:gridCol w="3048120"/>
              </a:tblGrid>
              <a:tr h="6048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1" lang="ru-RU" sz="2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Arial"/>
                        </a:rPr>
                        <a:t>    </a:t>
                      </a:r>
                      <a:r>
                        <a:rPr b="1" lang="ru-RU" sz="2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Arial"/>
                        </a:rPr>
                        <a:t>Материал для наблюдения для агентства  «Шерлок Холмс»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i="1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выращивать, выращенный, подросток, подросли, растительность, под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- Определите, зависит ли написание А или О от ударе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Arial"/>
                        </a:rPr>
                        <a:t>     </a:t>
                      </a:r>
                      <a:r>
                        <a:rPr b="1" lang="ru-RU" sz="2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Arial"/>
                        </a:rPr>
                        <a:t>Материал для наблюдения для группы «Доктор Ватсон»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i="1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подрастаем, вырастают, растительный, перерастёт, отрасту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- Распределите слова на два столбика в зависимости от наличия или отсутствия суффикса А. Определите, зависит ли написание гласных от суффикса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Arial"/>
                        </a:rPr>
                        <a:t>     </a:t>
                      </a:r>
                      <a:r>
                        <a:rPr b="1" lang="ru-RU" sz="2000" spc="-1" strike="noStrike" u="sng">
                          <a:solidFill>
                            <a:srgbClr val="eaeaea"/>
                          </a:solidFill>
                          <a:uFillTx/>
                          <a:latin typeface="Times New Roman"/>
                          <a:ea typeface="Arial"/>
                        </a:rPr>
                        <a:t>Материал для наблюдения для агентства «Эркюль Пуаро»: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i="1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растение,      вырастут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i="1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заросли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 </a:t>
                      </a:r>
                      <a:r>
                        <a:rPr b="0" i="1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выращенный, водоросли, сращени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    </a:t>
                      </a:r>
                      <a:r>
                        <a:rPr b="0" i="1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Arial"/>
                        </a:rPr>
                        <a:t>Определите, перед какими согласными пишется А, а перед какими – О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0" name="Рисунок 3" descr="http://www.cassandra.com.ua/_files/Image/people_search.jpg"/>
          <p:cNvPicPr/>
          <p:nvPr/>
        </p:nvPicPr>
        <p:blipFill>
          <a:blip r:embed="rId1"/>
          <a:stretch/>
        </p:blipFill>
        <p:spPr>
          <a:xfrm>
            <a:off x="468360" y="404640"/>
            <a:ext cx="8280360" cy="3529080"/>
          </a:xfrm>
          <a:prstGeom prst="rect">
            <a:avLst/>
          </a:prstGeom>
          <a:ln w="0">
            <a:noFill/>
          </a:ln>
        </p:spPr>
      </p:pic>
      <p:pic>
        <p:nvPicPr>
          <p:cNvPr id="1211" name="Picture 4" descr="MCj03608300000[1]"/>
          <p:cNvPicPr/>
          <p:nvPr/>
        </p:nvPicPr>
        <p:blipFill>
          <a:blip r:embed="rId2"/>
          <a:stretch/>
        </p:blipFill>
        <p:spPr>
          <a:xfrm>
            <a:off x="324000" y="3573360"/>
            <a:ext cx="1871640" cy="3284640"/>
          </a:xfrm>
          <a:prstGeom prst="rect">
            <a:avLst/>
          </a:prstGeom>
          <a:ln w="0">
            <a:noFill/>
          </a:ln>
        </p:spPr>
      </p:pic>
      <p:sp>
        <p:nvSpPr>
          <p:cNvPr id="1212" name="Text Box 9"/>
          <p:cNvSpPr/>
          <p:nvPr/>
        </p:nvSpPr>
        <p:spPr>
          <a:xfrm>
            <a:off x="2411280" y="4653000"/>
            <a:ext cx="67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Буква А пишется перед СТ, Щ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а буква О – перед С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3" name="Picture 2" descr="http://pics.livejournal.com/renatar/pic/00e35951/s640x480"/>
          <p:cNvPicPr/>
          <p:nvPr/>
        </p:nvPicPr>
        <p:blipFill>
          <a:blip r:embed="rId1"/>
          <a:stretch/>
        </p:blipFill>
        <p:spPr>
          <a:xfrm>
            <a:off x="250920" y="836640"/>
            <a:ext cx="8569080" cy="5589720"/>
          </a:xfrm>
          <a:prstGeom prst="rect">
            <a:avLst/>
          </a:prstGeom>
          <a:ln w="0">
            <a:noFill/>
          </a:ln>
        </p:spPr>
      </p:pic>
      <p:sp>
        <p:nvSpPr>
          <p:cNvPr id="1214" name="TextBox 4"/>
          <p:cNvSpPr/>
          <p:nvPr/>
        </p:nvSpPr>
        <p:spPr>
          <a:xfrm>
            <a:off x="250920" y="260280"/>
            <a:ext cx="8569080" cy="642600"/>
          </a:xfrm>
          <a:prstGeom prst="rect">
            <a:avLst/>
          </a:prstGeom>
          <a:solidFill>
            <a:srgbClr val="c2cea9"/>
          </a:solidFill>
          <a:ln cap="rnd" w="9360">
            <a:solidFill>
              <a:srgbClr val="8ba2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Следственный эксперимен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Picture 2" descr="https://i.pinimg.com/736x/16/4a/bf/164abf3f4433aba64798138813d1242d.jpg"/>
          <p:cNvPicPr/>
          <p:nvPr/>
        </p:nvPicPr>
        <p:blipFill>
          <a:blip r:embed="rId1"/>
          <a:stretch/>
        </p:blipFill>
        <p:spPr>
          <a:xfrm>
            <a:off x="179280" y="0"/>
            <a:ext cx="3203640" cy="2852640"/>
          </a:xfrm>
          <a:prstGeom prst="rect">
            <a:avLst/>
          </a:prstGeom>
          <a:ln w="0">
            <a:noFill/>
          </a:ln>
        </p:spPr>
      </p:pic>
      <p:sp>
        <p:nvSpPr>
          <p:cNvPr id="1216" name=""/>
          <p:cNvSpPr/>
          <p:nvPr/>
        </p:nvSpPr>
        <p:spPr>
          <a:xfrm>
            <a:off x="3419640" y="260280"/>
            <a:ext cx="5437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Дорогой Дядя Фёдор! Приезжай скорей в Простоквашино! У нас проблемы! Шарик с Матроскиным опять поругались и не хотят в огороде работать. Достигли возроста быка, а ум меньше, чем у теленка. А ведь там вырасли помидоры, их надо собирать. Дорожки позаростали бурьяном, а за забором сорняки ростут не по дням, а по часам. Я предлагал помощь, а они отказываются. В бочке с водой одна тина да водорасли. Яблоки вырасли и червям достались. Матроскин лишь на печи лежит да песни предлагает сочинять. И Шарик не хочет лапы свои к делу приложить. Усложняют они мне работу… Пропадает вырощенный урожай! Ты же знаешь, что сломать дерево – минута, выростить – го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т такие дела. Приезжай скорее, Дядя Фёдор!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TextBox 1"/>
          <p:cNvSpPr/>
          <p:nvPr/>
        </p:nvSpPr>
        <p:spPr>
          <a:xfrm>
            <a:off x="2494080" y="333360"/>
            <a:ext cx="3990600" cy="703440"/>
          </a:xfrm>
          <a:prstGeom prst="rect">
            <a:avLst/>
          </a:prstGeom>
          <a:gradFill rotWithShape="0">
            <a:gsLst>
              <a:gs pos="0">
                <a:srgbClr val="c3ffd3"/>
              </a:gs>
              <a:gs pos="100000">
                <a:srgbClr val="edfff2"/>
              </a:gs>
            </a:gsLst>
            <a:lin ang="16200000"/>
          </a:gradFill>
          <a:ln w="9360">
            <a:solidFill>
              <a:srgbClr val="a5deb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ФИЗМИНУТ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8" name="Picture 2" descr="C:\Users\ЕЛЕНА\Desktop\66940624.gif"/>
          <p:cNvPicPr/>
          <p:nvPr/>
        </p:nvPicPr>
        <p:blipFill>
          <a:blip r:embed="rId1"/>
          <a:stretch/>
        </p:blipFill>
        <p:spPr>
          <a:xfrm>
            <a:off x="6227640" y="1197000"/>
            <a:ext cx="2511720" cy="3384360"/>
          </a:xfrm>
          <a:prstGeom prst="rect">
            <a:avLst/>
          </a:prstGeom>
          <a:ln w="0">
            <a:noFill/>
          </a:ln>
        </p:spPr>
      </p:pic>
      <p:pic>
        <p:nvPicPr>
          <p:cNvPr id="1219" name="Picture 4" descr="http://smiles24.ru/data/smiles/anime-voennye-340.gif"/>
          <p:cNvPicPr/>
          <p:nvPr/>
        </p:nvPicPr>
        <p:blipFill>
          <a:blip r:embed="rId2"/>
          <a:stretch/>
        </p:blipFill>
        <p:spPr>
          <a:xfrm>
            <a:off x="324000" y="1268280"/>
            <a:ext cx="2879640" cy="3168720"/>
          </a:xfrm>
          <a:prstGeom prst="rect">
            <a:avLst/>
          </a:prstGeom>
          <a:ln w="0">
            <a:noFill/>
          </a:ln>
        </p:spPr>
      </p:pic>
      <p:pic>
        <p:nvPicPr>
          <p:cNvPr id="1220" name="Picture 6" descr="http://4put.ru/pictures/max/44/136477.gif"/>
          <p:cNvPicPr/>
          <p:nvPr/>
        </p:nvPicPr>
        <p:blipFill>
          <a:blip r:embed="rId3"/>
          <a:stretch/>
        </p:blipFill>
        <p:spPr>
          <a:xfrm>
            <a:off x="3492360" y="3213000"/>
            <a:ext cx="25196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"/>
          <p:cNvSpPr/>
          <p:nvPr/>
        </p:nvSpPr>
        <p:spPr>
          <a:xfrm>
            <a:off x="1332360" y="1773360"/>
            <a:ext cx="2992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ост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ост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остовщи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остисла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трас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2" name="Picture 2" descr="https://encrypted-tbn3.gstatic.com/images?q=tbn:ANd9GcQW0OfIOXAEUggWrcseyasNHWOLuuoQkq8GSOzKuOTyaSx2gUAu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35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 txBox="1"/>
          <p:nvPr/>
        </p:nvSpPr>
        <p:spPr>
          <a:xfrm>
            <a:off x="455400" y="1598760"/>
            <a:ext cx="822636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24" name="Picture 2" descr="http://chernila.org.ua/wp-content/uploads/2011/08/1uu.jpg"/>
          <p:cNvPicPr/>
          <p:nvPr/>
        </p:nvPicPr>
        <p:blipFill>
          <a:blip r:embed="rId1"/>
          <a:stretch/>
        </p:blipFill>
        <p:spPr>
          <a:xfrm>
            <a:off x="395280" y="260280"/>
            <a:ext cx="8353440" cy="6166080"/>
          </a:xfrm>
          <a:prstGeom prst="rect">
            <a:avLst/>
          </a:prstGeom>
          <a:ln w="0">
            <a:noFill/>
          </a:ln>
        </p:spPr>
      </p:pic>
      <p:sp>
        <p:nvSpPr>
          <p:cNvPr id="1225" name="Прямоугольник 3"/>
          <p:cNvSpPr/>
          <p:nvPr/>
        </p:nvSpPr>
        <p:spPr>
          <a:xfrm>
            <a:off x="395280" y="5661000"/>
            <a:ext cx="8353440" cy="642600"/>
          </a:xfrm>
          <a:prstGeom prst="rect">
            <a:avLst/>
          </a:prstGeom>
          <a:gradFill rotWithShape="0">
            <a:gsLst>
              <a:gs pos="0">
                <a:srgbClr val="c3ffd3"/>
              </a:gs>
              <a:gs pos="100000">
                <a:srgbClr val="edfff2"/>
              </a:gs>
            </a:gsLst>
            <a:lin ang="16200000"/>
          </a:gradFill>
          <a:ln w="9360">
            <a:solidFill>
              <a:srgbClr val="a5deb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ОК, ОТРАСЛЬ,РОСТОВШИ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6" name="Picture 2" descr="https://upload.wikimedia.org/wikipedia/ru/archive/b/bc/20100211164558!%D0%9B%D0%BE%D0%B3%D0%BE%D1%82%D0%B8%D0%BF_%D0%94%D0%B5%D1%82%D0%B5%D0%BA%D1%82%D0%B8%D0%B2-%D1%88%D0%BE%D1%8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455400" y="1598760"/>
            <a:ext cx="822636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29" name="Picture 2" descr="http://gamecollect.org/imgs/quest/art-detective.jpg"/>
          <p:cNvPicPr/>
          <p:nvPr/>
        </p:nvPicPr>
        <p:blipFill>
          <a:blip r:embed="rId1"/>
          <a:stretch/>
        </p:blipFill>
        <p:spPr>
          <a:xfrm>
            <a:off x="-7920" y="-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0" name="Прямоугольник 3"/>
          <p:cNvSpPr/>
          <p:nvPr/>
        </p:nvSpPr>
        <p:spPr>
          <a:xfrm>
            <a:off x="4427640" y="125280"/>
            <a:ext cx="4572000" cy="3978000"/>
          </a:xfrm>
          <a:prstGeom prst="rect">
            <a:avLst/>
          </a:prstGeom>
          <a:gradFill rotWithShape="0">
            <a:gsLst>
              <a:gs pos="0">
                <a:srgbClr val="c3ffd3"/>
              </a:gs>
              <a:gs pos="100000">
                <a:srgbClr val="edfff2"/>
              </a:gs>
            </a:gsLst>
            <a:lin ang="16200000"/>
          </a:gradFill>
          <a:ln w="9360">
            <a:solidFill>
              <a:srgbClr val="a5deb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Times New Roman"/>
                <a:ea typeface="Calibri"/>
              </a:rPr>
              <a:t>Сегодня я узнал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Times New Roman"/>
                <a:ea typeface="Calibri"/>
              </a:rPr>
              <a:t>Теперь я могу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Times New Roman"/>
                <a:ea typeface="Calibri"/>
              </a:rPr>
              <a:t>Урок для меня показался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003300"/>
                </a:solidFill>
                <a:latin typeface="Times New Roman"/>
                <a:ea typeface="Calibri"/>
              </a:rPr>
              <a:t>Было трудно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Picture 6" descr="http://alawars-free.ru/uploads/posts/2013-02/1360928609_2013-02-15_144211.jpg"/>
          <p:cNvPicPr/>
          <p:nvPr/>
        </p:nvPicPr>
        <p:blipFill>
          <a:blip r:embed="rId1"/>
          <a:srcRect l="0" t="-15218" r="0" b="59034"/>
          <a:stretch/>
        </p:blipFill>
        <p:spPr>
          <a:xfrm>
            <a:off x="395280" y="-819000"/>
            <a:ext cx="8352000" cy="3279600"/>
          </a:xfrm>
          <a:prstGeom prst="rect">
            <a:avLst/>
          </a:prstGeom>
          <a:ln w="0">
            <a:noFill/>
          </a:ln>
        </p:spPr>
      </p:pic>
      <p:pic>
        <p:nvPicPr>
          <p:cNvPr id="1184" name="Picture 8" descr="http://kronus.com.ua/wp-content/themes/kronus/images/page-ima.jpg"/>
          <p:cNvPicPr/>
          <p:nvPr/>
        </p:nvPicPr>
        <p:blipFill>
          <a:blip r:embed="rId2"/>
          <a:stretch/>
        </p:blipFill>
        <p:spPr>
          <a:xfrm>
            <a:off x="395280" y="2421000"/>
            <a:ext cx="8353440" cy="4221000"/>
          </a:xfrm>
          <a:prstGeom prst="rect">
            <a:avLst/>
          </a:prstGeom>
          <a:ln w="0">
            <a:noFill/>
          </a:ln>
        </p:spPr>
      </p:pic>
      <p:pic>
        <p:nvPicPr>
          <p:cNvPr id="1185" name="" descr=""/>
          <p:cNvPicPr/>
          <p:nvPr/>
        </p:nvPicPr>
        <p:blipFill>
          <a:blip r:embed="rId3"/>
          <a:stretch/>
        </p:blipFill>
        <p:spPr>
          <a:xfrm>
            <a:off x="8675640" y="6237360"/>
            <a:ext cx="4683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TextBox 1"/>
          <p:cNvSpPr/>
          <p:nvPr/>
        </p:nvSpPr>
        <p:spPr>
          <a:xfrm>
            <a:off x="1042920" y="1557360"/>
            <a:ext cx="748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50"/>
                </a:solidFill>
                <a:latin typeface="Arial"/>
                <a:ea typeface="Arial"/>
              </a:rPr>
              <a:t>ВЫБЕРИТЕ ИЗОБРАЖЕНИЕ. КОТОРОЕ СООТВЕТСТВУЕТ ВАШЕМУ НАСТРОЕНИЮ НА УРОК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2" name="Picture 6" descr="C:\Users\ЕЛЕНА\Desktop\329578573.gif"/>
          <p:cNvPicPr/>
          <p:nvPr/>
        </p:nvPicPr>
        <p:blipFill>
          <a:blip r:embed="rId1"/>
          <a:stretch/>
        </p:blipFill>
        <p:spPr>
          <a:xfrm>
            <a:off x="1332000" y="4508640"/>
            <a:ext cx="1584360" cy="1655640"/>
          </a:xfrm>
          <a:prstGeom prst="rect">
            <a:avLst/>
          </a:prstGeom>
          <a:ln w="0">
            <a:noFill/>
          </a:ln>
        </p:spPr>
      </p:pic>
      <p:pic>
        <p:nvPicPr>
          <p:cNvPr id="1233" name="Picture 7" descr="C:\Users\ЕЛЕНА\Desktop\134117464.gif"/>
          <p:cNvPicPr/>
          <p:nvPr/>
        </p:nvPicPr>
        <p:blipFill>
          <a:blip r:embed="rId2"/>
          <a:stretch/>
        </p:blipFill>
        <p:spPr>
          <a:xfrm>
            <a:off x="4572000" y="4462560"/>
            <a:ext cx="161280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Рисунок 3" descr="http://img-fotki.yandex.ru/get/6427/4398184.4/0_a682e_62875a7f_orig"/>
          <p:cNvPicPr/>
          <p:nvPr/>
        </p:nvPicPr>
        <p:blipFill>
          <a:blip r:embed="rId1"/>
          <a:stretch/>
        </p:blipFill>
        <p:spPr>
          <a:xfrm>
            <a:off x="324000" y="243000"/>
            <a:ext cx="8424720" cy="5130720"/>
          </a:xfrm>
          <a:prstGeom prst="rect">
            <a:avLst/>
          </a:prstGeom>
          <a:ln w="0">
            <a:noFill/>
          </a:ln>
        </p:spPr>
      </p:pic>
      <p:sp>
        <p:nvSpPr>
          <p:cNvPr id="1235" name="Прямоугольник 4"/>
          <p:cNvSpPr/>
          <p:nvPr/>
        </p:nvSpPr>
        <p:spPr>
          <a:xfrm>
            <a:off x="324000" y="5229360"/>
            <a:ext cx="8424720" cy="1564920"/>
          </a:xfrm>
          <a:prstGeom prst="rect">
            <a:avLst/>
          </a:prstGeom>
          <a:gradFill rotWithShape="0">
            <a:gsLst>
              <a:gs pos="0">
                <a:srgbClr val="c3ffd3"/>
              </a:gs>
              <a:gs pos="100000">
                <a:srgbClr val="edfff2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МАШНЕЕ ЗАДАНИЕ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раграф 85, упражнени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454, или придумать сказку о корнях раст, ращ, ро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Прямоугольник 1"/>
          <p:cNvSpPr/>
          <p:nvPr/>
        </p:nvSpPr>
        <p:spPr>
          <a:xfrm>
            <a:off x="971640" y="227664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Arial"/>
              </a:rPr>
              <a:t>СПАСИБО ЗА УРОК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-360" y="4437000"/>
            <a:ext cx="63723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В роли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274320" indent="-2743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Мисс   Марпл-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274320" indent="-27432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Гюзель </a:t>
            </a:r>
            <a:r>
              <a:rPr b="1" lang="ru-RU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Флюровн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88" name="Рисунок 3" descr="http://www.serialpost.ru/uploads/serials/PDVD_000_1.jpg"/>
          <p:cNvPicPr/>
          <p:nvPr/>
        </p:nvPicPr>
        <p:blipFill>
          <a:blip r:embed="rId1"/>
          <a:stretch/>
        </p:blipFill>
        <p:spPr>
          <a:xfrm>
            <a:off x="250920" y="260280"/>
            <a:ext cx="8758080" cy="428148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6" descr=""/>
          <p:cNvPicPr/>
          <p:nvPr/>
        </p:nvPicPr>
        <p:blipFill>
          <a:blip r:embed="rId2"/>
          <a:stretch/>
        </p:blipFill>
        <p:spPr>
          <a:xfrm>
            <a:off x="6227640" y="3284640"/>
            <a:ext cx="27910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468360" y="56610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«Шерлок  Холмс»-группа №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2" name="Picture 2" descr="Картинки по запросу Шерлок Холмс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"/>
          <p:cNvSpPr txBox="1"/>
          <p:nvPr/>
        </p:nvSpPr>
        <p:spPr>
          <a:xfrm>
            <a:off x="468360" y="5661000"/>
            <a:ext cx="8229600" cy="9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«Доктор  Ватсон»- группа №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4" name="Рисунок 3" descr="http://st-im.kinopoisk.ru/im/kadr/1/7/2/kinopoisk.ru-Priklyucheniya-Sherloka-Kholmsa-i-doktora-Vatsona_3A-Sobaka-Baskerviley-1727601.jpg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480960" y="5300280"/>
            <a:ext cx="833904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59533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«Эркюль Пуаро»- группа №3    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97" name="Picture 6" descr="https://avatars.mds.yandex.net/get-zen_doc/26916/pub_5d074dd7729e3a0d58fd0250_5d07a03680030d0d86acd65e/scale_1200"/>
          <p:cNvPicPr/>
          <p:nvPr/>
        </p:nvPicPr>
        <p:blipFill>
          <a:blip r:embed="rId1"/>
          <a:stretch/>
        </p:blipFill>
        <p:spPr>
          <a:xfrm>
            <a:off x="250920" y="115920"/>
            <a:ext cx="8713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8" name="Picture 2" descr="http://www.webmechta.com/f/poznay-mir/detektiv-sishik.jpg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ДЕТЕКТИВНОЕ АГЕНТСТВО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НАЧИНАЕТ РАССЛЕДОВАНИЕ…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200" name="Рисунок 3" descr="https://encrypted-tbn0.gstatic.com/images?q=tbn:ANd9GcQgc44camTU3-TSnBn7ymegLXcrfxraOZ_NMRrY9EoV2PXUw41e"/>
          <p:cNvPicPr/>
          <p:nvPr/>
        </p:nvPicPr>
        <p:blipFill>
          <a:blip r:embed="rId1"/>
          <a:stretch/>
        </p:blipFill>
        <p:spPr>
          <a:xfrm>
            <a:off x="395280" y="2781360"/>
            <a:ext cx="8064360" cy="3743280"/>
          </a:xfrm>
          <a:prstGeom prst="rect">
            <a:avLst/>
          </a:prstGeom>
          <a:ln w="0">
            <a:noFill/>
          </a:ln>
        </p:spPr>
      </p:pic>
      <p:pic>
        <p:nvPicPr>
          <p:cNvPr id="1201" name="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77081" fill="hold"/>
                                        <p:tgtEl>
                                          <p:spTgt spid="1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2" name="Ochen_-_Detektivnaya_muzyka_(iPlayer.fm).mp3" descr=""/>
          <p:cNvPicPr/>
          <p:nvPr/>
        </p:nvPicPr>
        <p:blipFill>
          <a:blip r:embed="rId1"/>
          <a:stretch/>
        </p:blipFill>
        <p:spPr>
          <a:xfrm>
            <a:off x="8675640" y="0"/>
            <a:ext cx="468360" cy="431640"/>
          </a:xfrm>
          <a:prstGeom prst="rect">
            <a:avLst/>
          </a:prstGeom>
          <a:ln w="0">
            <a:noFill/>
          </a:ln>
        </p:spPr>
      </p:pic>
      <p:pic>
        <p:nvPicPr>
          <p:cNvPr id="1203" name="Picture 2" descr="http://cs6032.vk.me/u19402337/video/l_462df074.jpg"/>
          <p:cNvPicPr/>
          <p:nvPr/>
        </p:nvPicPr>
        <p:blipFill>
          <a:blip r:embed="rId2"/>
          <a:stretch/>
        </p:blipFill>
        <p:spPr>
          <a:xfrm>
            <a:off x="5292720" y="765000"/>
            <a:ext cx="3851280" cy="5153040"/>
          </a:xfrm>
          <a:prstGeom prst="rect">
            <a:avLst/>
          </a:prstGeom>
          <a:ln w="0">
            <a:noFill/>
          </a:ln>
        </p:spPr>
      </p:pic>
      <p:sp>
        <p:nvSpPr>
          <p:cNvPr id="1204" name=""/>
          <p:cNvSpPr/>
          <p:nvPr/>
        </p:nvSpPr>
        <p:spPr>
          <a:xfrm>
            <a:off x="179280" y="189000"/>
            <a:ext cx="48974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Дорогой Дядя Фёдор! Приезжай скорей в Простоквашино! У нас проблемы! Шарик с Матроскиным опять поругались и не хотят в огороде работать. Достигли возроста быка, а ум меньше, чем у теленка. А ведь там вырасли помидоры, их надо собирать. Дорожки позаростали бурьяном, а за забором сорняки ростут не по дням, а по часам. Я предлагал помощь, а они отказываются. В бочке с водой одна тина да водорасли. Яблоки вырасли и червям достались. Матроскин лишь на печи лежит да песни предлагает сочинять. И Шарик не хочет лапы свои к делу приложить. Усложняют они мне работу… Пропадает вырощенный урожай! Ты же знаешь, что сломать дерево – минута, выростить – год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т такие дела. Приезжай скорее, Дядя Фёдор!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202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1202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77081" fill="hold"/>
                                        <p:tgtEl>
                                          <p:spTgt spid="1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7T10:58:43Z</dcterms:created>
  <dc:creator>Admin</dc:creator>
  <dc:description/>
  <dc:language>en-US</dc:language>
  <cp:lastModifiedBy>Admin</cp:lastModifiedBy>
  <dcterms:modified xsi:type="dcterms:W3CDTF">2020-10-22T11:54:29Z</dcterms:modified>
  <cp:revision>134</cp:revision>
  <dc:subject/>
  <dc:title>Слайд 1</dc:title>
</cp:coreProperties>
</file>